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ED4-C49D-4A9D-9BD7-2D38B1A5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D61-D9B7-468A-BDAF-7440A22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B98-5FDB-4128-99D8-189AB0DD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EDF-4BEA-4880-81EB-B9E0F01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E1D-FC09-495D-883A-A13B344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7E9-5852-4E2F-A15C-F89615A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355-9B7B-4886-8332-0C29425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904-EE20-4A99-9E9D-1F15DABA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D02-F226-41EE-A1F6-B0F7669F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A83-7A65-46AA-81E2-1F110F3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808-1BFA-48C5-A333-66A45B5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D95-5684-48C0-B243-EA53E2B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A49-4F5F-44D0-B9BF-EFB9CCB3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еведческая работа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блиотеки МОУ СОШ № 3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 Юрьев-Польского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0536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«Краеведение – основа нравственного воспитания народа. Оно приучает к сохранению своими руками культурного и природного насле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Д.С. Лих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Задачи библиотеки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воспитание у учащихся чувства патриот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риобщение детей к истории своей Родины, своего края через поисково-краеведческ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пополнение фонда библиотеки с помощью газетно-журнальных статей, архивных материалов  и рефератов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59120" y="35244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Формы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47720"/>
            <a:ext cx="770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оиск краеведческого материала в музеях, архивах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   библиоте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сторико-краеведческие викторины и конк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раевед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часы краеведения, циклы бесе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зучение родословной, составление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генеалогического дер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MS Outlook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4247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 библиотеке собран материал по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06064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Литературное краеведение (творчество писателей - земля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сторические портреты. Знаменитые земл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з истории сёл, деревень и усадеб Юрьев-Польского у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Вглядываясь в стары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История застройк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Великая Отечественная война: земл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ШКОЛА КРАЕВЕДА</a:t>
            </a:r>
            <a:br>
              <a:rPr sz="28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ограмма для учащихся 8-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1280" y="1413000"/>
            <a:ext cx="64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й час «Древнерусская святыня, родина богатыр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Выставка-вернисаж  «С почтеньем к старине далёк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е посиделки в музее «Белокаменная летопись Владимирской Рус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Час исторического портрета об Александре Невском  «Дипломат и во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Литературный калейдоскоп «Русские писатели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Турнир знатоков «Загадки старого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Заочное путешествие по городу  «Улицы расскажут ва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Краеведческие чтения  «И.С. Аксаков в с.Варвари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Встреча с ветеранами Великой Отечественной войны «Годы войны – века памя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Экологический КВН «Край,  в котором мы живё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Беседа о С.И. Танееве  «Моё сердце – родник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179280" y="2205000"/>
            <a:ext cx="2089080" cy="2736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4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4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4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34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64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4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24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4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84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ЛИТЕРАТУРНОЕ КРАЕВЕДЕНИЕ</a:t>
            </a:r>
            <a:br>
              <a:rPr sz="28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ограмма для учащихся 7-9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Заочная экскурсия по литературным местам Владими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час «Древнюю быль до вас донесу» (Эдуард Зор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о-музыкальная гостиная «Вязниковский соловей» (Алексей Фатья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час «Певец Владимирских просёлков» (Владимир Солоух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онкурс чтецов стихотворений В.Солоух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ый калейдоскоп «С книгами Сергея Голицына по родному кр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Заочное историческое путешествие по книге Л. Фоминцевой «Сунгирская лошад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Литературная час «Грибоедов и Владимирск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раеведческий час «Автор бессмертной строки» (Александр Одоев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Вечер поэзии «Вернисаж владимирских поэ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Обзор «Новинки прозы владимирских писател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197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аринные и памятные вещи в нашей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х именами и делами гордится наша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т эта улица, вот этот д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стеровы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4840" y="2565360"/>
            <a:ext cx="873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поисковых заданий для учащихся 7-11 классов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020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476280"/>
            <a:ext cx="8534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поисковых заданий для учащихся 1-6 классов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357720"/>
            <a:ext cx="805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итературный Юрьев-Поль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ихи учащихся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кабристы – наши земл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рия купечества и предпринимательства города Юрьев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ь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ладимирский край и татаро-монгольское наше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имические предприятия Владимир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химии на пищевых предприятиях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карственные растения наш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портивная жизнь Юрьев-Поль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423720"/>
            <a:ext cx="823140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Работы, над которыми работ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учащиеся в 2006 г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98900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ладимирский край и татаро-монгольское на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вязь купцов Муравкиных с Юрьев-Польской земл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озрождённая жизнь на Петропавловской пусто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з истории имения Голицыных в селе С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стория городского паркового ансамбля купцов Ганши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История появления владимирского антропотопони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«Ерофеевский спуск» и его связь с моими предками.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765000"/>
            <a:ext cx="8353440" cy="482472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1151640 h 4824720"/>
              <a:gd name="textAreaBottom" fmla="*/ 4681800 h 4824720"/>
            </a:gdLst>
            <a:ahLst/>
            <a:rect l="textAreaLeft" t="textAreaTop" r="textAreaRight" b="textAreaBottom"/>
            <a:pathLst>
              <a:path w="21600" h="21600">
                <a:moveTo>
                  <a:pt x="0" y="16444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504"/>
                </a:lnTo>
                <a:arcTo wR="21600" hR="20153" stAng="4471878" swAng="-976834"/>
                <a:lnTo>
                  <a:pt x="18900" y="9451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4998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451"/>
                </a:lnTo>
                <a:close/>
              </a:path>
              <a:path fill="none" w="21600" h="21600">
                <a:moveTo>
                  <a:pt x="8100" y="4998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4998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504"/>
                </a:moveTo>
                <a:lnTo>
                  <a:pt x="5400" y="4516"/>
                </a:lnTo>
              </a:path>
              <a:path fill="none" w="21600" h="21600">
                <a:moveTo>
                  <a:pt x="16200" y="18504"/>
                </a:moveTo>
                <a:lnTo>
                  <a:pt x="16200" y="4516"/>
                </a:lnTo>
              </a:path>
            </a:pathLst>
          </a:custGeom>
          <a:solidFill>
            <a:srgbClr val="bbe0e3"/>
          </a:solidFill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зен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ведующая библиоте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У СОШ №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.Юрьев-Поль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рашенинник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6:46:28Z</dcterms:created>
  <dc:creator>Пользователь</dc:creator>
  <dc:description/>
  <dc:language>en-US</dc:language>
  <cp:lastModifiedBy>Пользователь</cp:lastModifiedBy>
  <dcterms:modified xsi:type="dcterms:W3CDTF">2007-03-14T12:38:00Z</dcterms:modified>
  <cp:revision>7</cp:revision>
  <dc:subject/>
  <dc:title>Слайд 1</dc:title>
</cp:coreProperties>
</file>